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9F0-8914-4DD8-BB0D-D134B465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52E-2558-4760-B98A-EFBA173D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789-88C1-40A0-967A-DDF140ED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7E5-B7A0-474A-A898-D92EBCBA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42B7-91CB-4EA2-92C5-B147B0DA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4BA4-98FB-4185-A069-A9BB3617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06E8-34C6-4D21-ABFC-2EC570B7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CBE5-1061-4312-A439-2BE55BE5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8AC5-3651-43BC-8484-839CCDC4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F28D-7B0B-4C5A-A819-D352BE80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9738-3B09-4805-8118-2174BED1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3AE-9CF1-49C6-8985-18DF8973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5D72-5E07-4891-AAEA-AC68F9E8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6C2F-260F-42EE-9693-7F582E81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EC1A-156C-4F2C-BF19-C385A74F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93CD-F421-4C80-9868-674C0E74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3797-7E33-4E9A-99E2-5E8A6193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F49-F290-476B-971F-E1864822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F4E-CE64-4A79-A919-1F0249B3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716-F0FB-4C69-9DDA-BD22A73F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2A9-62AD-4720-94C4-D570EAAB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71E-F1FE-44B0-9524-1733551B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542-201B-42AC-AF5C-A60E7BD0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FFD-2867-4164-9C85-821CC400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7BCB-8888-4BE4-B98A-419D5B01FFC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1884-9414-4E53-B8EA-19AC54BDC63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llog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mal Reaso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nying the consequent—saying the “then” part did not occu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did not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did not go to schoo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(2) fallacies involv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nying the antece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ffirming the conseq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enying the antece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do not go to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will not learn any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Not necessarily!  One may learn out of schoo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ffirming the conseq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go to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Again, one may learn elsewher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junctive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Either-or”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llogis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ither you lik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War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Tre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lik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Wa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don’t lik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Tre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Formally valid, but can’t we like both?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mal correctness insufficient to gain adheren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ecise language essential to analyzing and appraising argu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ertainty cannot always be establishe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soning does not always follow three-liner for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 Consul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arefsky, David.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rgumentation: The Study of Effective Reasoning.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Edition.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he Great Courses.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antilly, VA: The Teaching Company, 2005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irie, Madsen.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How to Win Every Argument: The Use and Abuse of Logic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  London: Continuum, 2006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ncerned with “form” or structur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eed have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noth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to do with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content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r fa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y use symbols (e.g.,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ζ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, Þ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lowing form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s mentioned above, formal logic doesn’t have to have anything to do with the real worl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lidity” is about form, not fa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.g.,</a:t>
            </a:r>
            <a:br>
              <a:rPr sz="2800"/>
            </a:b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heavenly bodies are made of mil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sun is a heavenly bo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sun is made of mil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ductive and Indu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 new inform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clusions are certai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ew inform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clusions are proba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ormal reasoning i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de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y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- together +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logo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reason, discour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ains three (3) par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jor premi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inor premi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ree (3) syllogistic types here considered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tegoric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dition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sjunc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c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ll,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“None,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“Some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syllogis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und example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freshmen are lazy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ajor premis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a freshma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inor premis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lazy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onclusio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aulty examp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freshmen are laz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a freshma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lazy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maybe, maybe no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c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tter example of “some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girls like Jane Aust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students are girl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students like Jane Aust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An unfounded generalization?  You betch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But it’s formally correct.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f-then”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llogis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teced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sequent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,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go to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firming the antecedent—saying the “if” condition did in fact occu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go to schoo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will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9:24:40Z</dcterms:created>
  <dc:creator>csclab</dc:creator>
  <dc:description/>
  <dc:language>en-US</dc:language>
  <cp:lastModifiedBy>csclab</cp:lastModifiedBy>
  <dcterms:modified xsi:type="dcterms:W3CDTF">2009-09-04T11:16:55Z</dcterms:modified>
  <cp:revision>13</cp:revision>
  <dc:subject/>
  <dc:title>Syllogisms</dc:title>
</cp:coreProperties>
</file>